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4F3-8C94-4256-B8BC-51C2E565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DC4-C6BE-45C0-8D05-E74B59B7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BD6-2DCB-4EEC-B966-0A0F5847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39F-B2FF-4F7E-B139-B278304D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3D3-3CE5-4BBD-B5F3-7EBCAC1C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1E9-B10C-4D4C-9A18-94BDC2F4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C89-A19B-49D7-A35E-962FC92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7C6-F5C5-46C0-B731-93F0E037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069-5C99-41B5-853F-5B401710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4BB-8953-430A-A695-5E824D50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3CC-8FBA-4EAB-BFE5-3FEBD0AB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EA2-0D92-4CE9-B434-0B8299D8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18D-0224-4739-9BA9-E3AEAF581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  Emissions will further declin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sent legislation and structural change will significantly reduce air pollution in the fu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ected changes  between 2000 and 2020 (EU-25)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: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65%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50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OC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-45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-4%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-274320">
              <a:spcBef>
                <a:spcPts val="123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M2.5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-45%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But: Air quality remains threat to human health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020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2020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pproximately 5 months loss in life expectancy due to P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ral 1000s premature deaths due to ozo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Sustainable conditions for vegeta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ll not be reached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4580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uropean forest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ill continue be exposed to ozone up to six times above sustainable level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50.000 km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(13%) will receive unsustainable acid deposition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ny Natura2000 areas remain unprotected from acidific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% of Swedish lakes will face excess of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5% of European ecosystems will receive too high nitrogen deposition, endangering bio-diversity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) Relevance of sources will chang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561760"/>
            <a:ext cx="8142120" cy="29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ditional “large polluters” will reduce their contributions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ther sources will take over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Ships, industrial processes, small sourc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Ships, diesel heavy duty vehicles, off-roa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OC: Solvent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 Agricultur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M: Wood burning, industrial process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3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acts on population exposure needs to be further explored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) Ships will surpass land-based EU source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8760" y="1836720"/>
            <a:ext cx="4657680" cy="286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00400" y="3745080"/>
            <a:ext cx="4657680" cy="286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35160" y="1982880"/>
            <a:ext cx="630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11280" y="3860640"/>
            <a:ext cx="6458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) Energy projections will influence future emission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22240"/>
            <a:ext cx="7772400" cy="28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ternative energy projections lead to different emission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wever, within realistic limits, baseline emission projections are robus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t: Potential and costs for further measures is critically influenced by projected energy structur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7T09:04:39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22357721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