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86E-B616-4262-9826-7F11C4E1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0D3-C2FF-4B1D-B9A3-5681AFD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C4F-D2B9-48B3-918E-89CBB98F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646-A22B-4FD8-8946-97959F14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999-E9EB-46E0-B1F0-10825718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CA0-DA84-4068-BD29-526A47A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719-66B8-4100-8F4A-45EE2D2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7FA-4C59-4006-9097-46DDE908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463-57A6-4C60-B8D1-CD8D532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D93-A958-43B6-9D88-1F95C9C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AD4-9F2C-447F-8476-F29C4A8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39D-AD3E-4076-94A4-73AB0A7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4F5-3601-4AB7-9E5D-D488B688C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  Emissions will further declin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ent legislation and structural change will significantly reduce air pollution in the fu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cted changes  between 2000 and 2020 (EU-25)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: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65%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50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OC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-45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-4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M2.5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-45%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But: Air quality remains threat to human health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020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2020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pproximately 5 months loss in life expectancy due to P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ral 1000s premature deaths due to ozo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Sustainable conditions for vegeta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ll not be reache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4580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uropean forest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ill continue be exposed to ozone up to six times above sustainable level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0.000 km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(13%) will receive unsustainable acid deposition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ny Natura2000 areas remain unprotected from acidific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% of Swedish lakes will face excess of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5% of European ecosystems will receive too high nitrogen deposition, endangering bio-diversit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) Relevance of sources will chang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61760"/>
            <a:ext cx="81421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ditional “large polluters” will reduce their contributions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ther sources will take over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Ships, industrial processes, small sourc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Ships, diesel heavy duty vehicles, off-roa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OC: Solvent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Agricultur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M: Wood burning, industrial process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acts on population exposure needs to be further explored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) Ships will surpass land-based EU sourc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8760" y="1836720"/>
            <a:ext cx="465768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00400" y="3745080"/>
            <a:ext cx="4657680" cy="28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35160" y="1982880"/>
            <a:ext cx="630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1280" y="3860640"/>
            <a:ext cx="6458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) Energy projections will influence future emission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22240"/>
            <a:ext cx="7772400" cy="28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ternative energy projections lead to different emissio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ever, within realistic limits, baseline emission projections are robus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t: Potential and costs for further measures is critically influenced by projected energy struc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7T09:04:39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2357721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