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B76-B1B4-4EC8-92C9-BBB2F804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17A-A0CC-49C1-AD01-8731DDC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16E-7157-4E6A-90D4-085AF6CD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11B-4924-4C7D-9FA2-9F8831C3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5A8-FEDA-48C1-947A-131585D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7E7-1BF1-4FE2-91B2-F921EB43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56E-76DE-4B3A-9353-3866D5DE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A0E-614B-4A5C-BA21-A195E6A2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5E3-B3A2-4B19-8516-9091B45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8E9-00CB-433C-841A-D1BB340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357-9F60-45DD-B8ED-72A97DB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E48-5531-4031-81AA-766403F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88B-2C86-44C8-AA1C-D15EDE08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  Emissions will further declin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ent legislation and structural change will significantly reduce air pollution in the fu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cted changes  between 2000 and 2020 (EU-25)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65%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50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-4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2.5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But: Air quality remains threat to human health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020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2020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pproximately 5 months loss in life expectancy due to P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ral 1000s premature deaths du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Sustainable conditions for veget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ll not be reache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4580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ropean forest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ill continue be exposed to ozone up to six times above sustainable level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0.000 k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13%) will receive unsustainable acid deposition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ny Natura2000 areas remain unprotected from acidif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% of Swedish lakes will face excess of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5% of European ecosystems will receive too high nitrogen deposition, endangering bio-diversit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) Relevance of sources will chang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61760"/>
            <a:ext cx="81421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ditional “large polluters” will reduce their contributions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ther sources will take over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industrial processes, small sourc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diesel heavy duty vehicles, off-roa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 Solvent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Agricultur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: Wood burning, industrial process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acts on population exposure needs to be further explored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) Ships will surpass land-based EU sourc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8760" y="1836720"/>
            <a:ext cx="465768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00400" y="3745080"/>
            <a:ext cx="4657680" cy="28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35160" y="198288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1280" y="386064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) Energy projections will influence future emission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22240"/>
            <a:ext cx="7772400" cy="28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ternative energy projections lead to different emiss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within realistic limits, baseline emission projections are robus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t: Potential and costs for further measures is critically influenced by projected energy struc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9:04:39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235772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