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91960"/>
            <a:ext cx="830592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3480" y="389196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9196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5920" y="389196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4280" y="3891960"/>
            <a:ext cx="26744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51818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3480" y="389196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830592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afd00"/>
              </a:buClr>
              <a:buSzPct val="60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afd00"/>
              </a:buClr>
              <a:buSzPct val="60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24480" y="6400800"/>
            <a:ext cx="242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57200" y="1371600"/>
            <a:ext cx="8331120" cy="5028840"/>
            <a:chOff x="457200" y="1371600"/>
            <a:chExt cx="8331120" cy="5028840"/>
          </a:xfrm>
        </p:grpSpPr>
        <p:sp>
          <p:nvSpPr>
            <p:cNvPr id="4" name=""/>
            <p:cNvSpPr/>
            <p:nvPr/>
          </p:nvSpPr>
          <p:spPr>
            <a:xfrm>
              <a:off x="457200" y="1371600"/>
              <a:ext cx="8331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400440"/>
              <a:ext cx="8331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73040" y="274680"/>
            <a:ext cx="1413000" cy="944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400880" y="28584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64008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3b900"/>
                </a:solidFill>
                <a:latin typeface="Arial"/>
              </a:rPr>
              <a:t>Clean Air for Europe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CAFE Work Programm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367840" cy="47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Times New Roman"/>
              </a:rPr>
              <a:t>Preparing the Thematic strategy on air pollu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afd00"/>
                </a:solidFill>
                <a:latin typeface="Times New Roman"/>
              </a:rPr>
              <a:t>October 2004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afd00"/>
                </a:solidFill>
                <a:latin typeface="Times New Roman"/>
              </a:rPr>
              <a:t>First results of RAINS PaM scenarios and further advice from CAFE WG TSPA on PaMs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afd00"/>
                </a:solidFill>
                <a:latin typeface="Times New Roman"/>
              </a:rPr>
              <a:t>TREMOVE ready for scenario runs/analysis. CBA starting.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afd00"/>
                </a:solidFill>
                <a:latin typeface="Times New Roman"/>
              </a:rPr>
              <a:t>ASTA workshop in Gothenburg 25-27 October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afd00"/>
                </a:solidFill>
                <a:latin typeface="Times New Roman"/>
              </a:rPr>
              <a:t>November 2004 – discussions of results in CAFE WGs and SG. Possibly further advice. Drafting of CAFE integrated policy advice.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afd00"/>
                </a:solidFill>
                <a:latin typeface="Times New Roman"/>
              </a:rPr>
              <a:t>Jan/Feb 2005 – analysis</a:t>
            </a:r>
            <a:r>
              <a:rPr b="1" lang="sv-SE" sz="2000" spc="-1" strike="noStrike">
                <a:solidFill>
                  <a:srgbClr val="ffff00"/>
                </a:solidFill>
                <a:latin typeface="Times New Roman"/>
              </a:rPr>
              <a:t> of RAINS scenarios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imes New Roman"/>
              </a:rPr>
              <a:t>March/April 2005 - finalisation of CAFE advice and draft TS. Including CBA and TREMOVE.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imes New Roman"/>
              </a:rPr>
              <a:t>June 2005 - Adoption of Thematic Strategy by Commiss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00"/>
                </a:solidFill>
                <a:latin typeface="Arial"/>
              </a:rPr>
              <a:t>Why NEC not as part of the Thematic Strategy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00"/>
                </a:solidFill>
                <a:latin typeface="Times New Roman"/>
              </a:rPr>
              <a:t>Many Member States are updating their energy forecasts due to climate change polici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00"/>
                </a:solidFill>
                <a:latin typeface="Times New Roman"/>
              </a:rPr>
              <a:t>Need more time to improve emission factors in some area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00"/>
                </a:solidFill>
                <a:latin typeface="Times New Roman"/>
              </a:rPr>
              <a:t>Need more time to finalise the development of the integrated assessment modelling framework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00"/>
                </a:solidFill>
                <a:latin typeface="Times New Roman"/>
              </a:rPr>
              <a:t>Enlargement amplifies the importanc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00"/>
                </a:solidFill>
                <a:latin typeface="Times New Roman"/>
              </a:rPr>
              <a:t>No urgency to finalise this as the ceilings will be effective from 2010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30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181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00"/>
                </a:solidFill>
                <a:latin typeface="Arial"/>
              </a:rPr>
              <a:t>Preparing the NEC review: first thoughts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367840" cy="47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fd00"/>
                </a:solidFill>
                <a:latin typeface="Times New Roman"/>
              </a:rPr>
              <a:t>November 2004 – deadline for MS to submit revised energy baselines for NEC revision, new information on technologi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fd00"/>
                </a:solidFill>
                <a:latin typeface="Times New Roman"/>
              </a:rPr>
              <a:t>February 2005 – updating Integrated Assessment Model (IAM) for the NEC review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fd00"/>
                </a:solidFill>
                <a:latin typeface="Times New Roman"/>
              </a:rPr>
              <a:t>March to August 2005 – Consultations with Member Stat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fd00"/>
                </a:solidFill>
                <a:latin typeface="Times New Roman"/>
              </a:rPr>
              <a:t>November 2005 – Final stakeholder consultations on input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fd00"/>
                </a:solidFill>
                <a:latin typeface="Times New Roman"/>
              </a:rPr>
              <a:t>January 2006 – IAM operational for NEC revis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fd00"/>
                </a:solidFill>
                <a:latin typeface="Times New Roman"/>
              </a:rPr>
              <a:t>June 2006 – Commission proposal of revised NEC directive, including CBA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1T11:36:00Z</dcterms:created>
  <dc:creator>Peter Wicks</dc:creator>
  <dc:description/>
  <dc:language>en-US</dc:language>
  <cp:lastModifiedBy>EXT0015</cp:lastModifiedBy>
  <cp:lastPrinted>2002-12-06T09:43:06Z</cp:lastPrinted>
  <dcterms:modified xsi:type="dcterms:W3CDTF">2004-09-27T13:55:00Z</dcterms:modified>
  <cp:revision>273</cp:revision>
  <dc:subject>IPPC</dc:subject>
  <dc:title>Color Slide Template CE DG XI Engl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77831735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