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F95-5E5D-4243-90E8-9ACBA1C4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1D8-B680-4EB0-949F-4C37739D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74B-A89E-4915-BD15-45AB36B8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110-776B-4687-8887-70489214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FB10-9DC6-42EB-9D45-DC35A741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A8E7-3737-490C-8EF6-335A0565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B21D-D662-4878-A47F-1D82D4A8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9A83-AE4D-4326-8D77-8C0D8776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7D99-F566-43B3-96F9-60E73AEC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3ACC-F2F8-4D87-A661-5C0F7B93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3DD2-8947-4D0F-90CC-E92412E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9C4-443B-4CA6-814E-18ED20AC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C2CB-8465-45D2-A520-D8BD6A54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8DEE-8C29-4F3D-AF97-A0386079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0C67-5327-46B4-BAB0-397F075F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4E72-F8AA-4C17-9AA9-79135F07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5A3A-7D9D-4106-A763-46E9519E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408-EFE5-44CE-8EA2-F4320D50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BBB-D849-4F88-8387-975BB681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EDF-35BC-4FFB-8F27-DB4707A2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7B5-ABF4-455B-AF9A-63AB16C9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DDB-ACE3-4900-A269-67C41CB1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A6D-6E70-4D2C-9820-BB51A85D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00F-F766-43FC-8C2E-3A67D1B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E79F-7D1D-40A6-8770-9687DB1F9EFA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FCBB-097B-4AA6-97A9-C7C5794AC6F9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154320"/>
            <a:ext cx="6248520" cy="27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FE Baseline dissemination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7/09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. Leonidas Mant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3M-LAB/ICCS NT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: Kapros@central.ntua.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33360"/>
            <a:ext cx="6248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 projections as input to the CAFE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ES projections and nation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ncluding remark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ustained economic growth can take place with low additional energy needs: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siderable energy efficiency gains, as economic growth is driven by less energy intensive s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Arial Narrow"/>
              </a:rPr>
              <a:t>Electricity is essential for consumer’s welfare, electricity generation and supply is also essential for energy policy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Arial Narrow"/>
              </a:rPr>
              <a:t>Transportation is also crucial for welfare: challenges for policy to deliver technological change, fuel efficiency and environmental improve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0000"/>
                </a:solidFill>
                <a:latin typeface="Arial Narrow"/>
              </a:rPr>
              <a:t>Energy Imports grow four times faster than total energy needs, raising security of supply concerns (import dependency close to 62% in 202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0000"/>
                </a:solidFill>
                <a:latin typeface="Arial Narrow"/>
              </a:rPr>
              <a:t>Evidence of saturation effects as regards the further decarbonisation of the energy system beyond 2010 even in the presence of climate policy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AFE Energy Baseline scenario</a:t>
            </a: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RIMES projection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point: LREM baseline scenario (developed for DG-T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inalise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 December 2002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mate policies measures not included explicit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FE baseline scenario incorpor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mate policy meas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istence of an EU-wide emissions trading regime is assu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mit price ranges from 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00 per t of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2010 to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00 in 2015 and 20 €00 in 2020-2030 leading to adjustment of 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economic agents through changes in relative fuel pr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mber States com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aintains however a Europe-wide consistency in assumptions about energy prices, imports and exports of electric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vised macroeconomic assumptions reflecting latest tren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test data as regards the evolution of the EU-25 power generation sec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EU-25 energy system in the horizon to 2020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392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-25 population remains rather stable to 2000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grows at a rate of 2.3% pa in 2000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0% pa in 2000-20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energy needs reach at 1.8 Gtoe in 2020 (from 1.65 in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mports rise by 1.8%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ity production grows by 1.4%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5000 MW of new power plants per year (for expansion and replac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issions in 2020 are slightly below 2000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.4% from 1990 levels in 2010, -3.6% in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role for New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42720" indent="-283320">
              <a:lnSpc>
                <a:spcPct val="90000"/>
              </a:lnSpc>
              <a:spcBef>
                <a:spcPts val="425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EU-15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missions reach at -3.6% from 1990 levels in 2010 and +0.6% in 2020 (from +1.2% in 2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42720" indent="-283320">
              <a:lnSpc>
                <a:spcPct val="90000"/>
              </a:lnSpc>
              <a:spcBef>
                <a:spcPts val="425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NMS they reach at -24.8% in 2010 and -22.5% in 2020 (from -20.4% in 2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 primary energy needs:</a:t>
            </a: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tructure by fuel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417816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ural 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trategic importance, close to 160% of incremental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new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igh growth but still have a low share (10% in 20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ctor-specific fuel, stable demand but maintains high share in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ucl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reases after 2010, depends on plants’ lifetime and nuclear phase-ou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l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ntinuous decline in the horizon t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CO</a:t>
            </a:r>
            <a:r>
              <a:rPr b="1" lang="en-US" sz="28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port sector is mainly responsible for increased emissions and the persisting dependence on oil impo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ectricity Generation sector (part of Supply Side) is responsible for higher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issions in the long run, as part of nuclear is decommissio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1719360"/>
            <a:ext cx="741672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Demand sid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lk of additional energy needs in the demand side come from transport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 needs continuously rise while natural gas also gains additional market share over the projection peri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2030,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issions in the transport sector account for close to 50% of total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issions in the 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Power generation secto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is key for power generation market expansion in the horizon t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ewable energy forms also grow significantly with their market share in electricity generation reaching 20.2% in 2010 and 22.4% in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1719360"/>
            <a:ext cx="7848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Investment in Power Gener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15 years, 620 GW of new Power Investment (funds up to 550 bill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need to be constru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5 GW Gas-fired, 36 GW Advanced Coal, 180 GW Renewables and 12 GW Nucl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ig challenge for the liberalized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6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mparison to the LREM Baseline scenario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 policy measures have a key role in the projected evolution of the EU-25 energy system under CAFÉ baseline scenario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economic growth results in less pronounced energy intensity gains but also a mor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vour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velopment for carbon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2:42:42Z</dcterms:created>
  <dc:creator>Maria</dc:creator>
  <dc:description/>
  <dc:language>en-US</dc:language>
  <cp:lastModifiedBy>Leonidas Mantzos</cp:lastModifiedBy>
  <dcterms:modified xsi:type="dcterms:W3CDTF">2004-09-24T13:29:18Z</dcterms:modified>
  <cp:revision>19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41830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