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A0C-734C-44D6-B364-340E8107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FBA-2E57-4A85-BAF5-D2FF9F5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9B8-85E8-4808-8963-3E371E2F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7A2-A538-4BD1-9D7F-D29BFC6E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74E5-FFF9-43D4-A780-7CAEB09B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AF29-FE5F-41B2-AD0A-844BD7AB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5CBE-C507-4C4A-8049-B889668D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058A-CB40-4D31-961C-D1B8A30F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84EB-FF3C-4E1D-89B9-8BDA343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ABC-B5C8-423D-BD01-6B89991E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A4C3-0C41-42B9-92E7-4457A29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671-76BA-48C7-9313-6D830DE0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8BB9-8506-4470-8E91-DCD92A9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07FD-29C4-4B46-B075-766B955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78BB-0C4B-4995-A5BB-E24A13C5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7008-79F7-439B-97EA-2ACB3108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FB49-1314-49CE-9974-04531C49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B4D-D4E0-4B9A-A148-BD19D051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214-3E82-4B2A-8F7E-2B92E7A1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C6E-2AC2-4EB2-84E3-527D73CC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B5D-14D9-4CB5-AE9A-B624FA1F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398-A426-402B-8E9E-E967B97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91C-0007-4242-BAA1-E1643B7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F18-D0AE-4F5F-A61C-5E9C148A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9BC7-5AF1-43B0-8BDE-AF2E3A3EF571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5221-8D3D-4A7C-9D94-658452408F17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154320"/>
            <a:ext cx="6248520" cy="27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FE Baseline dissemination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7/09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. Leonidas Mant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3M-LAB/ICCS NT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: Kapros@central.ntua.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33360"/>
            <a:ext cx="6248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 projections as input to the CAFE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S projections and nation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ncluding remark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ustained economic growth can take place with low additional energy needs: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siderable energy efficiency gains, as economic growth is driven by less energy intensive s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 Narrow"/>
              </a:rPr>
              <a:t>Electricity is essential for consumer’s welfare, electricity generation and supply is also essential for energy policy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 Narrow"/>
              </a:rPr>
              <a:t>Transportation is also crucial for welfare: challenges for policy to deliver technological change, fuel efficiency and environmental improve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0000"/>
                </a:solidFill>
                <a:latin typeface="Arial Narrow"/>
              </a:rPr>
              <a:t>Energy Imports grow four times faster than total energy needs, raising security of supply concerns (import dependency close to 62% in 202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0000"/>
                </a:solidFill>
                <a:latin typeface="Arial Narrow"/>
              </a:rPr>
              <a:t>Evidence of saturation effects as regards the further decarbonisation of the energy system beyond 2010 even in the presence of climate policy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AFE Energy Baseline scenario</a:t>
            </a: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IMES projection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point: LREM baseline scenario (developed for DG-T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inalise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 December 2002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mate policies measures not included explicit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FE baseline scenario incorpo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mate policy meas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istence of an EU-wide emissions trading regime is assu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mit price ranges from 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00 per t of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2010 to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00 in 2015 and 20 €00 in 2020-2030 leading to adjustment of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economic agents through changes in relative fuel pr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mber States com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aintains however a Europe-wide consistency in assumptions about energy prices, imports and exports of electric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vised macroeconomic assumptions reflecting latest tren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test data as regards the evolution of the EU-25 power generation sec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EU-25 energy system in the horizon to 2020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392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-25 population remains rather stable to 2000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grows at a rate of 2.3% pa in 2000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0% pa in 2000-20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energy needs reach at 1.8 Gtoe in 2020 (from 1.65 in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mports rise by 1.8%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ity production grows by 1.4%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5000 MW of new power plants per year (for expansion and replac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ssions in 2020 are slightly below 2000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.4% from 1990 levels in 2010, -3.6% in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role for New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42720" indent="-283320">
              <a:lnSpc>
                <a:spcPct val="90000"/>
              </a:lnSpc>
              <a:spcBef>
                <a:spcPts val="425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EU-15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issions reach at -3.6% from 1990 levels in 2010 and +0.6% in 2020 (from +1.2% in 2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42720" indent="-283320">
              <a:lnSpc>
                <a:spcPct val="90000"/>
              </a:lnSpc>
              <a:spcBef>
                <a:spcPts val="425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NMS they reach at -24.8% in 2010 and -22.5% in 2020 (from -20.4% in 2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 primary energy needs:</a:t>
            </a: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tructure by fuel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17816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ural 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trategic importance, close to 160% of incremental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new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igh growth but still have a low share (10% in 20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ctor-specific fuel, stable demand but maintains high share in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ucl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reases after 2010, depends on plants’ lifetime and nuclear phase-ou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l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ntinuous decline in the horizon t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CO</a:t>
            </a:r>
            <a:r>
              <a:rPr b="1" lang="en-US" sz="28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port sector is mainly responsible for increased emissions and the persisting dependence on oil imp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ectricity Generation sector (part of Supply Side) is responsible for higher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issions in the long run, as part of nuclear is decommissio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1719360"/>
            <a:ext cx="741672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Demand sid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lk of additional energy needs in the demand side come from transport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 needs continuously rise while natural gas also gains additional market share over the projection peri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2030,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issions in the transport sector account for close to 50% of total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issions in the 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Power generation secto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is key for power generation market expansion in the horizon t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wable energy forms also grow significantly with their market share in electricity generation reaching 20.2% in 2010 and 22.4% in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1719360"/>
            <a:ext cx="7848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Investment in Power Gener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15 years, 620 GW of new Power Investment (funds up to 550 bill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need to be constru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5 GW Gas-fired, 36 GW Advanced Coal, 180 GW Renewables and 12 GW Nucl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ig challenge for the liberalized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mparison to the LREM Baseline scenario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 policy measures have a key role in the projected evolution of the EU-25 energy system under CAFÉ baseline scenario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economic growth results in less pronounced energy intensity gains but also a mor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vour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velopment for carbon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2:42:42Z</dcterms:created>
  <dc:creator>Maria</dc:creator>
  <dc:description/>
  <dc:language>en-US</dc:language>
  <cp:lastModifiedBy>Leonidas Mantzos</cp:lastModifiedBy>
  <dcterms:modified xsi:type="dcterms:W3CDTF">2004-09-24T13:29:18Z</dcterms:modified>
  <cp:revision>19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41830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