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6AF-E93D-40E7-9ABF-83F0CEFB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6D6-8E35-41CE-8793-60A3E16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52C-FF97-44FA-8526-B0A73D9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D49-CB28-4679-A241-0AEE272A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8DEA-4DCA-4FAA-A5D6-A9BE19FB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DCB-16D1-4A5D-BF4F-74D5D062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2BF-93E2-415E-B2E7-C3BAAD6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B749-AB42-40F1-8AEB-CC279C0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075-EB34-490C-BD37-EFC4BAA3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641-E268-41DF-A4F1-E8E7065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28E-BF41-41B0-95FE-7BE5804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0FB-6089-40EB-B84D-75A21AD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B42B-EC0F-4047-BFC8-F23F8CA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88CC-4A41-4C71-96BC-B946A69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CC8-A2B0-4856-9DE4-9CAE6F4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6F44-1031-4D92-BD51-42307D50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E3CE-FFDA-498E-826B-DD96395E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F85-D11A-49D5-AE36-74311AF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C0E-A8A6-46B0-A4E5-48515C2D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7FD-3E6B-4D29-BE98-4516D815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8CC-C5B4-44E0-851E-0B01D01E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D79-9079-49BF-AF7E-992D270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BF7-787D-427E-A2EF-0236166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7C3-B3D3-4AE2-BFFE-620CAA0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B2F-682C-4C68-8375-5EE52016D37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AB1-E39C-40C5-B1E8-4053ADD051A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154320"/>
            <a:ext cx="624852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FE Baseline dissemination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7/09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. Leonidas Mant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3M-LAB/ICCS NT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: Kapros@central.ntua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3333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 projections as input to the CAFE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S projections and nation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ncluding remark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ustained economic growth can take place with low additional energy needs: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siderable energy efficiency gains, as economic growth is driven by less energy intensive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Electricity is essential for consumer’s welfare, electricity generation and supply is also essential for energy polic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Arial Narrow"/>
              </a:rPr>
              <a:t>Transportation is also crucial for welfare: challenges for policy to deliver technological change, fuel efficiency and environmental improv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nergy Imports grow four times faster than total energy needs, raising security of supply concerns (import dependency close to 62% in 202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0000"/>
                </a:solidFill>
                <a:latin typeface="Arial Narrow"/>
              </a:rPr>
              <a:t>Evidence of saturation effects as regards the further decarbonisation of the energy system beyond 2010 even in the presence of climate policy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AFE Energy Baseline scenario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IMES projection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oint: LREM baseline scenario (developed for DG-T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nalis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December 200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ies measures not included explicit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FE baseline scenario incorpo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mate policy meas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istence of an EU-wide emissions trading regime is as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mit price ranges from 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per t of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2010 to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00 in 2015 and 20 €00 in 2020-2030 leading to adjustment of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economic agents through changes in relative fuel pr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 States com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aintains however a Europe-wide consistency in assumptions about energy prices, imports and exports of electric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ised macroeconomic assumptions reflecting latest tre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est data as regards the evolution of the EU-25 power generation s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EU-25 energy system in the horizon to 2020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39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-25 population remains rather stable to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s at a rate of 2.3% pa in 2000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.0% pa in 2000-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energy needs reach at 1.8 Gtoe in 2020 (from 1.65 in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mports rise by 1.8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ity production grows by 1.4%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000 MW of new power plants per year (for expansion and replac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issions in 2020 are slightly below 2000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.4% from 1990 levels in 2010, -3.6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role for New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EU-15 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issions reach at -3.6% from 1990 levels in 2010 and +0.6% in 2020 (from +1.2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42720" indent="-283320"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NMS they reach at -24.8% in 2010 and -22.5% in 2020 (from -20.4% in 2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 primary energy needs:</a:t>
            </a: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tructure by fuel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17816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ural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trategic importance, close to 160% of incremental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new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igh growth but still have a low share (10% in 20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ctor-specific fuel, stable demand but maintains high share in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cl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reases after 2010, depends on plants’ lifetime and nuclear phase-ou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l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ntinuous decline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CO</a:t>
            </a:r>
            <a:r>
              <a:rPr b="1" lang="en-US" sz="28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emission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port sector is mainly responsible for increased emissions and the persisting dependence on oil im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ity Generation sector (part of Supply Side) is responsible for higher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long run, as part of nuclear is decommiss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719360"/>
            <a:ext cx="74167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Demand sid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lk of additional energy needs in the demand side come from transport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 needs continuously rise while natural gas also gains additional market share over the projection peri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2030,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transport sector account for close to 50% of total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issions in the demand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Power generation secto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is key for power generation market expansion in the horizon t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 forms also grow significantly with their market share in electricity generation reaching 20.2% in 2010 and 22.4% in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719360"/>
            <a:ext cx="7848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EU-25: Investment in Power Generation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5660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5 years, 620 GW of new Power Investment (funds up to 550 bill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eed to be constru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5 GW Gas-fired, 36 GW Advanced Coal, 180 GW Renewables and 12 GW Nucl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ig challenge for the liberalized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mparison to the LREM Baseline scenario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policy measures have a key role in the projected evolution of the EU-25 energy system under CAFÉ baseline scenario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economic growth results in less pronounced energy intensity gains but also a mor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vou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lopment for carbon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2:42:42Z</dcterms:created>
  <dc:creator>Maria</dc:creator>
  <dc:description/>
  <dc:language>en-US</dc:language>
  <cp:lastModifiedBy>Leonidas Mantzos</cp:lastModifiedBy>
  <dcterms:modified xsi:type="dcterms:W3CDTF">2004-09-24T13:29:18Z</dcterms:modified>
  <cp:revision>1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41830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