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0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35.wmf" ContentType="image/x-wmf"/>
  <Override PartName="/ppt/media/image5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31B7-D89A-428B-BC58-F4BF12BD3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77724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2680"/>
            <a:ext cx="77724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77CC-2EDE-457E-9878-CAC48D54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75860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268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34268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2672-B771-4635-95AC-BD3CD00E3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2502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758600"/>
            <a:ext cx="2502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758600"/>
            <a:ext cx="2502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2680"/>
            <a:ext cx="2502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342680"/>
            <a:ext cx="2502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342680"/>
            <a:ext cx="2502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AE25-ACB5-40C6-97E5-A32711A1E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758600"/>
            <a:ext cx="777240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C4C7-2C88-40B2-B849-FE91E195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77724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2E46-F1FB-4A0D-86A3-E18FBF00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3792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758600"/>
            <a:ext cx="3792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0E17-98BB-4667-83A1-2346E379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ADB2-0793-4216-8BF3-C9C3E1AB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04880" y="52668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D6D2-4627-4EB7-AD7C-035C2482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758600"/>
            <a:ext cx="3792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268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5DF9-CED9-4698-B6D2-15C663D1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3792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75860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34268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28D6-347C-44AD-8F3D-17880A2D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75860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2680"/>
            <a:ext cx="77724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6ECC-0618-4D9F-94C5-2733CEF6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090440" y="1225440"/>
            <a:ext cx="7367760" cy="451080"/>
          </a:xfrm>
          <a:prstGeom prst="rect">
            <a:avLst/>
          </a:prstGeom>
          <a:gradFill rotWithShape="0">
            <a:gsLst>
              <a:gs pos="0">
                <a:srgbClr val="e7e7fe"/>
              </a:gs>
              <a:gs pos="100000">
                <a:srgbClr val="00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58600"/>
            <a:ext cx="77724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B539-4344-4546-99DD-E82F9E2F9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0064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i-600blu" descr=""/>
          <p:cNvPicPr/>
          <p:nvPr/>
        </p:nvPicPr>
        <p:blipFill>
          <a:blip r:embed="rId2"/>
          <a:stretch/>
        </p:blipFill>
        <p:spPr>
          <a:xfrm>
            <a:off x="696960" y="1219320"/>
            <a:ext cx="342720" cy="48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. Amann, I. Bertok, J. Cofala, F. Gyarfas, C. Heyes.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Z. Klimont, W. Sch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öpp, W. Winiwarter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69240" y="3068640"/>
            <a:ext cx="60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CAFE baseline scenar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Emission proj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emissions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of the PRIMES projections [Mt]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0" y="1700280"/>
            <a:ext cx="3011400" cy="4316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560600" y="1700280"/>
            <a:ext cx="3011400" cy="4316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11360" y="6230880"/>
            <a:ext cx="7721280" cy="2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327560" y="6316560"/>
            <a:ext cx="2249640" cy="243720"/>
            <a:chOff x="4327560" y="6316560"/>
            <a:chExt cx="2249640" cy="243720"/>
          </a:xfrm>
        </p:grpSpPr>
        <p:sp>
          <p:nvSpPr>
            <p:cNvPr id="78" name=""/>
            <p:cNvSpPr/>
            <p:nvPr/>
          </p:nvSpPr>
          <p:spPr>
            <a:xfrm>
              <a:off x="4327560" y="6367320"/>
              <a:ext cx="317520" cy="128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8680" y="6316560"/>
              <a:ext cx="1838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w Member St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671400" y="6316560"/>
            <a:ext cx="3170160" cy="243720"/>
            <a:chOff x="671400" y="6316560"/>
            <a:chExt cx="3170160" cy="243720"/>
          </a:xfrm>
        </p:grpSpPr>
        <p:sp>
          <p:nvSpPr>
            <p:cNvPr id="81" name=""/>
            <p:cNvSpPr/>
            <p:nvPr/>
          </p:nvSpPr>
          <p:spPr>
            <a:xfrm>
              <a:off x="671400" y="6367320"/>
              <a:ext cx="317520" cy="12852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082160" y="631656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U-1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704600" y="6419880"/>
              <a:ext cx="317520" cy="1440"/>
            </a:xfrm>
            <a:prstGeom prst="line">
              <a:avLst/>
            </a:prstGeom>
            <a:ln w="36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800000" y="6356160"/>
              <a:ext cx="125280" cy="12564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115720" y="6316560"/>
              <a:ext cx="172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Kyoto target EU-1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6673680" y="6316560"/>
            <a:ext cx="2139840" cy="243720"/>
            <a:chOff x="6673680" y="6316560"/>
            <a:chExt cx="2139840" cy="243720"/>
          </a:xfrm>
        </p:grpSpPr>
        <p:sp>
          <p:nvSpPr>
            <p:cNvPr id="87" name=""/>
            <p:cNvSpPr/>
            <p:nvPr/>
          </p:nvSpPr>
          <p:spPr>
            <a:xfrm>
              <a:off x="6673680" y="6419880"/>
              <a:ext cx="317520" cy="1440"/>
            </a:xfrm>
            <a:prstGeom prst="line">
              <a:avLst/>
            </a:prstGeom>
            <a:ln w="36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68720" y="6356160"/>
              <a:ext cx="127080" cy="1256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84800" y="6316560"/>
              <a:ext cx="1728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Kyoto target EU-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535320" y="4741920"/>
            <a:ext cx="13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th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limate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12840" y="4741920"/>
            <a:ext cx="131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o further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limate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ational projections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onsidered for the CAFE baseline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988640"/>
            <a:ext cx="380988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ergy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elgium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zech Republic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enmark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inland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rance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taly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ortugal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lovenia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weden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UK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1640" y="1988640"/>
            <a:ext cx="380988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griculture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ustria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enmark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rance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reland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taly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atvia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etherlands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ortugal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lovenia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UK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emissions 2015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elative to 2000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12720" y="1700280"/>
            <a:ext cx="791676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3397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emission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emissions by sector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“With climate measures” scenario [kt]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-44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26120" y="53514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U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42200" y="4741920"/>
            <a:ext cx="1114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ew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ember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905040" y="6021360"/>
            <a:ext cx="7341840" cy="500760"/>
            <a:chOff x="905040" y="6021360"/>
            <a:chExt cx="7341840" cy="500760"/>
          </a:xfrm>
        </p:grpSpPr>
        <p:sp>
          <p:nvSpPr>
            <p:cNvPr id="103" name=""/>
            <p:cNvSpPr/>
            <p:nvPr/>
          </p:nvSpPr>
          <p:spPr>
            <a:xfrm>
              <a:off x="905040" y="6021360"/>
              <a:ext cx="625788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60480" y="6097320"/>
              <a:ext cx="109440" cy="1098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06640" y="6053040"/>
              <a:ext cx="1398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wer gene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89120" y="6097320"/>
              <a:ext cx="109800" cy="1098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36360" y="6053040"/>
              <a:ext cx="63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dus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56000" y="6097320"/>
              <a:ext cx="109440" cy="109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04680" y="6053040"/>
              <a:ext cx="74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mest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32320" y="6097320"/>
              <a:ext cx="109440" cy="1098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9560" y="6053040"/>
              <a:ext cx="76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27720" y="6097320"/>
              <a:ext cx="109440" cy="1098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75320" y="6053040"/>
              <a:ext cx="85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gri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12040" y="6097320"/>
              <a:ext cx="109440" cy="1098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54960" y="6053040"/>
              <a:ext cx="1591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dustrial proces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28160" y="6308640"/>
              <a:ext cx="168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C emission cei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92360" y="6308640"/>
              <a:ext cx="144720" cy="14436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040440" y="2173320"/>
            <a:ext cx="144360" cy="14436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67200" y="3735360"/>
            <a:ext cx="144360" cy="14436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60600" y="1658880"/>
            <a:ext cx="3011400" cy="4316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72000" y="1698480"/>
            <a:ext cx="301140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emissions projected for 2010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ompared to NEC emission ceilings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12720" y="1714680"/>
            <a:ext cx="791676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92000" y="1557360"/>
            <a:ext cx="7558200" cy="4648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ange of S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emission projections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[kt]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92000" y="1557360"/>
            <a:ext cx="7558200" cy="4648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792000" y="1557360"/>
            <a:ext cx="7558200" cy="4648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505520" y="6137280"/>
            <a:ext cx="613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----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-15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-----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Member States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---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a reg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emissions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“With climate measures” scenario [kt]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2720" y="1692360"/>
            <a:ext cx="791676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3397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O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emission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560600" y="1701720"/>
            <a:ext cx="3011400" cy="43164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emissions by sector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“With climate measures” scenario [kt]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-44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76960" y="53514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U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80000" y="4741920"/>
            <a:ext cx="1114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ew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ember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33800" y="3112920"/>
            <a:ext cx="144360" cy="1447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66000" y="2178000"/>
            <a:ext cx="144360" cy="14436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905040" y="6021360"/>
            <a:ext cx="7341840" cy="500760"/>
            <a:chOff x="905040" y="6021360"/>
            <a:chExt cx="7341840" cy="500760"/>
          </a:xfrm>
        </p:grpSpPr>
        <p:sp>
          <p:nvSpPr>
            <p:cNvPr id="140" name=""/>
            <p:cNvSpPr/>
            <p:nvPr/>
          </p:nvSpPr>
          <p:spPr>
            <a:xfrm>
              <a:off x="905040" y="6021360"/>
              <a:ext cx="625788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60480" y="6097320"/>
              <a:ext cx="109440" cy="1098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06640" y="6053040"/>
              <a:ext cx="1398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wer gene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89120" y="6097320"/>
              <a:ext cx="109800" cy="1098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36360" y="6053040"/>
              <a:ext cx="63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dus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56000" y="6097320"/>
              <a:ext cx="109440" cy="109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604680" y="6053040"/>
              <a:ext cx="74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mest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32320" y="6097320"/>
              <a:ext cx="109440" cy="1098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9560" y="6053040"/>
              <a:ext cx="76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27720" y="6097320"/>
              <a:ext cx="109440" cy="1098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75320" y="6053040"/>
              <a:ext cx="85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gri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12040" y="6097320"/>
              <a:ext cx="109440" cy="1098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54960" y="6053040"/>
              <a:ext cx="1591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dustrial proces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28160" y="6308640"/>
              <a:ext cx="168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C emission cei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92360" y="6308640"/>
              <a:ext cx="144720" cy="14436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572000" y="1716120"/>
            <a:ext cx="301140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pproach for baseline emission projection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atch RAINS estimates with nationally reported emission inventories for 2000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se projections on emission generating activities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energy, transport, agriculture) 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U-wide scenarios and national projections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trapolate penetration rates of control measures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p to 2020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aking account of international and national legislatio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emissions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“With climate measures” scenario, EU-25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12720" y="1623960"/>
            <a:ext cx="79167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emissions projected for 2010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ompared to NEC emission ceilings 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12720" y="1714680"/>
            <a:ext cx="791676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92000" y="1557360"/>
            <a:ext cx="7558200" cy="46483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92000" y="1557360"/>
            <a:ext cx="7558200" cy="46483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ange of N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emission projections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[kt]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792000" y="1557360"/>
            <a:ext cx="7558200" cy="46483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522080" y="6157800"/>
            <a:ext cx="609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----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-15</a:t>
            </a: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-----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Member States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---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a reg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emissions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“With climate measures” scenario [kt]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12720" y="1692360"/>
            <a:ext cx="791676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3397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VOC emission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VOC emissions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“With climate measures” scenario [kt]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7640" y="53514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U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78200" y="4741920"/>
            <a:ext cx="118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ew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ember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66000" y="2131920"/>
            <a:ext cx="144360" cy="1447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02120" y="3119400"/>
            <a:ext cx="144360" cy="14436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774720" y="5959440"/>
            <a:ext cx="7593120" cy="739800"/>
            <a:chOff x="774720" y="5959440"/>
            <a:chExt cx="7593120" cy="739800"/>
          </a:xfrm>
        </p:grpSpPr>
        <p:sp>
          <p:nvSpPr>
            <p:cNvPr id="174" name=""/>
            <p:cNvSpPr/>
            <p:nvPr/>
          </p:nvSpPr>
          <p:spPr>
            <a:xfrm>
              <a:off x="774720" y="5959440"/>
              <a:ext cx="7593120" cy="73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8720" y="6034320"/>
              <a:ext cx="299880" cy="109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06720" y="5989680"/>
              <a:ext cx="1398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wer gene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359160" y="6034320"/>
              <a:ext cx="300240" cy="1094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38240" y="5989680"/>
              <a:ext cx="63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dus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91400" y="6034320"/>
              <a:ext cx="299880" cy="109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70840" y="5989680"/>
              <a:ext cx="942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usehol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28720" y="6280200"/>
              <a:ext cx="299880" cy="1098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07800" y="6235920"/>
              <a:ext cx="76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359160" y="6280200"/>
              <a:ext cx="300240" cy="1098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38600" y="6235920"/>
              <a:ext cx="85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gri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91400" y="6280200"/>
              <a:ext cx="299880" cy="1098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69040" y="6235920"/>
              <a:ext cx="73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lvent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28720" y="6526440"/>
              <a:ext cx="299880" cy="1094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08160" y="6481800"/>
              <a:ext cx="50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s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359160" y="6569280"/>
              <a:ext cx="300240" cy="1440"/>
            </a:xfrm>
            <a:prstGeom prst="line">
              <a:avLst/>
            </a:prstGeom>
            <a:ln w="36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736440" y="6481800"/>
              <a:ext cx="2112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ational Emission Ceiling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560600" y="1671480"/>
            <a:ext cx="3011400" cy="43164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572000" y="1711440"/>
            <a:ext cx="301140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VOC emissions projected for 2010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ompared to NEC emission ceilings 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12720" y="1714680"/>
            <a:ext cx="791676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3397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emission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emissions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“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e-CAP reform” scenario [kt]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8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27640" y="53514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U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405560" y="4741920"/>
            <a:ext cx="1114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ew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ember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905040" y="6021360"/>
            <a:ext cx="7341840" cy="500760"/>
            <a:chOff x="905040" y="6021360"/>
            <a:chExt cx="7341840" cy="500760"/>
          </a:xfrm>
        </p:grpSpPr>
        <p:sp>
          <p:nvSpPr>
            <p:cNvPr id="201" name=""/>
            <p:cNvSpPr/>
            <p:nvPr/>
          </p:nvSpPr>
          <p:spPr>
            <a:xfrm>
              <a:off x="905040" y="6021360"/>
              <a:ext cx="625788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60480" y="6097320"/>
              <a:ext cx="109440" cy="1098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106640" y="6053040"/>
              <a:ext cx="1398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wer gene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589120" y="6097320"/>
              <a:ext cx="109800" cy="1098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36360" y="6053040"/>
              <a:ext cx="63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dus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56000" y="6097320"/>
              <a:ext cx="109440" cy="1098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04680" y="6053040"/>
              <a:ext cx="74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mest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32320" y="6097320"/>
              <a:ext cx="109440" cy="1098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579560" y="6053040"/>
              <a:ext cx="76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27720" y="6097320"/>
              <a:ext cx="109440" cy="1098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75320" y="6053040"/>
              <a:ext cx="85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gri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512040" y="6097320"/>
              <a:ext cx="109440" cy="1098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54960" y="6053040"/>
              <a:ext cx="1591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dustrial proces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728160" y="6308640"/>
              <a:ext cx="168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C emission cei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92360" y="6308640"/>
              <a:ext cx="144720" cy="14436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6122880" y="2325600"/>
            <a:ext cx="144720" cy="1447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092400" y="2009880"/>
            <a:ext cx="144360" cy="14436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560600" y="1698480"/>
            <a:ext cx="3011400" cy="43164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572000" y="1712880"/>
            <a:ext cx="301140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emissions projected for 2010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ompared to NEC emission ceilings 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12720" y="1700280"/>
            <a:ext cx="791676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3397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eparation of RAINS database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3397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imary PM emission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810720" y="547992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PM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AINS PM emission estimates 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vs. national inventories, 2000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560600" y="1900080"/>
            <a:ext cx="3011400" cy="43164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572000" y="1900080"/>
            <a:ext cx="3011400" cy="4316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632360" y="5614920"/>
            <a:ext cx="9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PM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835360" y="6316560"/>
            <a:ext cx="3471840" cy="247680"/>
            <a:chOff x="2835360" y="6316560"/>
            <a:chExt cx="3471840" cy="247680"/>
          </a:xfrm>
        </p:grpSpPr>
        <p:sp>
          <p:nvSpPr>
            <p:cNvPr id="229" name=""/>
            <p:cNvSpPr/>
            <p:nvPr/>
          </p:nvSpPr>
          <p:spPr>
            <a:xfrm>
              <a:off x="2835360" y="6316560"/>
              <a:ext cx="347184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89360" y="6392880"/>
              <a:ext cx="254160" cy="1094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220560" y="6348240"/>
              <a:ext cx="1430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ational invento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92960" y="6435720"/>
              <a:ext cx="253800" cy="1440"/>
            </a:xfrm>
            <a:prstGeom prst="line">
              <a:avLst/>
            </a:prstGeom>
            <a:ln w="36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024520" y="6348240"/>
              <a:ext cx="127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AINS estim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M2.5 emissions by sector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“With climate measures” scenario [kt]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-63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710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27640" y="53514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U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361280" y="4741920"/>
            <a:ext cx="1114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ew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ember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905040" y="6021360"/>
            <a:ext cx="7341840" cy="500760"/>
            <a:chOff x="905040" y="6021360"/>
            <a:chExt cx="7341840" cy="500760"/>
          </a:xfrm>
        </p:grpSpPr>
        <p:sp>
          <p:nvSpPr>
            <p:cNvPr id="240" name=""/>
            <p:cNvSpPr/>
            <p:nvPr/>
          </p:nvSpPr>
          <p:spPr>
            <a:xfrm>
              <a:off x="905040" y="6021360"/>
              <a:ext cx="625788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60480" y="6097320"/>
              <a:ext cx="109440" cy="1098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06640" y="6053040"/>
              <a:ext cx="1398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wer gene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89120" y="6097320"/>
              <a:ext cx="109800" cy="1098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36360" y="6053040"/>
              <a:ext cx="63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dus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56000" y="6097320"/>
              <a:ext cx="109440" cy="109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04680" y="6053040"/>
              <a:ext cx="74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mest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32320" y="6097320"/>
              <a:ext cx="109440" cy="1098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79560" y="6053040"/>
              <a:ext cx="76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27720" y="6097320"/>
              <a:ext cx="109440" cy="1098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575320" y="6053040"/>
              <a:ext cx="85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gri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512040" y="6097320"/>
              <a:ext cx="109440" cy="1098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654960" y="6053040"/>
              <a:ext cx="1591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dustrial proces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728160" y="6308640"/>
              <a:ext cx="168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C emission cei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92360" y="6308640"/>
              <a:ext cx="144720" cy="14436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560600" y="1711440"/>
            <a:ext cx="3011400" cy="43164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4572000" y="1684440"/>
            <a:ext cx="301140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ntribution to primary PM2.5 emissions 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“With climate measures” scenario, EU-15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12720" y="1623960"/>
            <a:ext cx="79167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lack carbon emissions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“With climate measures” scenario [kt]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592280" y="1700280"/>
            <a:ext cx="2979720" cy="43196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572000" y="1700280"/>
            <a:ext cx="2979720" cy="43196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827640" y="530064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U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451280" y="4724280"/>
            <a:ext cx="118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ew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ember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741760" y="6308640"/>
            <a:ext cx="3662640" cy="213480"/>
            <a:chOff x="2741760" y="6308640"/>
            <a:chExt cx="3662640" cy="213480"/>
          </a:xfrm>
        </p:grpSpPr>
        <p:sp>
          <p:nvSpPr>
            <p:cNvPr id="265" name=""/>
            <p:cNvSpPr/>
            <p:nvPr/>
          </p:nvSpPr>
          <p:spPr>
            <a:xfrm>
              <a:off x="2741760" y="6353280"/>
              <a:ext cx="109080" cy="109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90080" y="6308640"/>
              <a:ext cx="64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al, oi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619440" y="6353280"/>
              <a:ext cx="109080" cy="109440"/>
            </a:xfrm>
            <a:prstGeom prst="rect">
              <a:avLst/>
            </a:prstGeom>
            <a:solidFill>
              <a:srgbClr val="cc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769200" y="6308640"/>
              <a:ext cx="46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oo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17840" y="6353280"/>
              <a:ext cx="109080" cy="10944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64360" y="6308640"/>
              <a:ext cx="1261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esel, gaso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808600" y="6353280"/>
              <a:ext cx="109080" cy="1094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957280" y="630864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96960" y="1996920"/>
            <a:ext cx="817704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ile accounting for continued economic growth …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ational emissions of air pollutants will decrease up to 2020: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O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-65%,  NO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-50%, VOC -45%, NH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-4%, PM2.5 -45%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ue to structural changes and emission control legislation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elevance of sectors for further measures will change.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123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mall combustion sources!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123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dustrial processes, solvents!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123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ff-road vehicles and machinery!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missions from maritime activities will surpass land-based  emissions of EU-25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baseline scenario on the Web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30686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ll country- and sector-specific results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f the baseline scenarios are available at: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ww.iiasa.ac.at/rains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ilateral consultations (1)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7240" y="2081160"/>
          <a:ext cx="7769160" cy="3956040"/>
        </p:xfrm>
        <a:graphic>
          <a:graphicData uri="http://schemas.openxmlformats.org/drawingml/2006/table">
            <a:tbl>
              <a:tblPr/>
              <a:tblGrid>
                <a:gridCol w="1417680"/>
                <a:gridCol w="1274760"/>
                <a:gridCol w="755640"/>
                <a:gridCol w="1847880"/>
                <a:gridCol w="979560"/>
                <a:gridCol w="876240"/>
                <a:gridCol w="6174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 or organ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ultation meeting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of expe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nts receiv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nts PRIM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ergy scenari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r. sc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nma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Jan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t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 Oct 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ROP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3 Oct 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 Dec 03 – 23 Mar 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RELECTR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31 Oct 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ung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Nov 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rma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-21 Nov 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Dec 03 - 23 Mar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zech Republ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Nov 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Dec - 27 Feb, 07Apr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Dec 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a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6 Dec 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Jan, 15 Feb - 02 Apr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9 Jan 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 Mar 04 - 2-15 Apr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wed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-23 Jan 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Jan, 09 Mar - 04 Apr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-28 Jan 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Feb, 03 Mar - 15 Mar, 06 Apr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5 Feb 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Mar 04 - 13 Apr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ilateral consultations (2)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00200" y="2011320"/>
          <a:ext cx="7742160" cy="4095720"/>
        </p:xfrm>
        <a:graphic>
          <a:graphicData uri="http://schemas.openxmlformats.org/drawingml/2006/table">
            <a:tbl>
              <a:tblPr/>
              <a:tblGrid>
                <a:gridCol w="1139760"/>
                <a:gridCol w="1293840"/>
                <a:gridCol w="757080"/>
                <a:gridCol w="2109960"/>
                <a:gridCol w="988920"/>
                <a:gridCol w="839880"/>
                <a:gridCol w="6127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 or organ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ultation meeting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of expe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nts receiv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nts PRIM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ergy scenari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r. . sc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tu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13 Feb 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Feb, 03,05 Mar - 08 Apr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lg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-17 Feb 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 Mar - 2-13 Apr, 06 Apr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st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Feb 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Feb - 18,19 Mar, 19 Apr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e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5/19 Mar 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19 Mar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VO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Mar 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9 Mar 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 25 Mar 04 - 19 Apr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thua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Mar 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Mar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o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Mar 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Mar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ovak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Mar 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Mar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-18 Mar 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18 Mar 04 - 07 Apr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ove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Mar 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29 Mar 04 - 01, 08 Apr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herla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26 Mar 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Mar 04 - 02,08,18 Apr 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+ 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0" y="4059360"/>
            <a:ext cx="4095720" cy="2519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76280" y="4059360"/>
            <a:ext cx="4095720" cy="2519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76280" y="1646280"/>
            <a:ext cx="4095720" cy="2519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4572000" y="1646280"/>
            <a:ext cx="4095720" cy="2519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AINS emission estimates 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vs. national inventories, 2000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80920" y="1863720"/>
            <a:ext cx="63036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SO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74440" y="4257720"/>
            <a:ext cx="732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V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1280" y="1878120"/>
            <a:ext cx="64584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NO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867440" y="4257720"/>
            <a:ext cx="63180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NH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835360" y="6423120"/>
            <a:ext cx="3471840" cy="247680"/>
            <a:chOff x="2835360" y="6423120"/>
            <a:chExt cx="3471840" cy="247680"/>
          </a:xfrm>
        </p:grpSpPr>
        <p:sp>
          <p:nvSpPr>
            <p:cNvPr id="63" name=""/>
            <p:cNvSpPr/>
            <p:nvPr/>
          </p:nvSpPr>
          <p:spPr>
            <a:xfrm>
              <a:off x="2835360" y="6423120"/>
              <a:ext cx="347184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89360" y="6499440"/>
              <a:ext cx="254160" cy="1094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20560" y="6454800"/>
              <a:ext cx="1430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ational invento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92960" y="6542280"/>
              <a:ext cx="253800" cy="1440"/>
            </a:xfrm>
            <a:prstGeom prst="line">
              <a:avLst/>
            </a:prstGeom>
            <a:ln w="36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024520" y="6454800"/>
              <a:ext cx="127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AINS estim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3397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conomic drivers for emission projection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ojections of economic activities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ed for the CAFE baseline scenarios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758600"/>
            <a:ext cx="81342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nergy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evised PRIMES projection for all 25 EU countries, </a:t>
            </a:r>
            <a:br>
              <a:rPr sz="2000"/>
            </a:b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with climate measure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(carbon price 12-20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€/t CO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)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Including national comments received after April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DG-TREN Energy Outlook to 2030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(PRIMES calculations for all 25 EU countries, </a:t>
            </a:r>
            <a:br>
              <a:rPr sz="2000"/>
            </a:b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ithout further climate measure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)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National projections (10 countries)  - with climate measures?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Agriculture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DG-AGRI projection for all  25 EU countries, pre-CAP reform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National projections (10 countries)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conomic drivers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ssumed for the PRIMES energy projections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12720" y="1700280"/>
            <a:ext cx="791676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19:01:15Z</dcterms:created>
  <dc:creator>Markus Amann</dc:creator>
  <dc:description/>
  <dc:language>en-US</dc:language>
  <cp:lastModifiedBy>Markus Amann</cp:lastModifiedBy>
  <dcterms:modified xsi:type="dcterms:W3CDTF">2004-09-26T15:16:00Z</dcterms:modified>
  <cp:revision>3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01452525</vt:r8>
  </property>
  <property fmtid="{D5CDD505-2E9C-101B-9397-08002B2CF9AE}" pid="3" name="_AuthorEmail">
    <vt:lpwstr>Duncan.JOHNSTONE@cec.eu.int</vt:lpwstr>
  </property>
  <property fmtid="{D5CDD505-2E9C-101B-9397-08002B2CF9AE}" pid="4" name="_AuthorEmailDisplayName">
    <vt:lpwstr>JOHNSTONE Duncan (ENV)</vt:lpwstr>
  </property>
  <property fmtid="{D5CDD505-2E9C-101B-9397-08002B2CF9AE}" pid="5" name="_EmailSubject">
    <vt:lpwstr>Commenting CAFE Energy baseline on 27 September?</vt:lpwstr>
  </property>
</Properties>
</file>