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7DE-AB6E-47FA-8D58-3481FA6C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A89-C840-43BF-B855-53FFEF16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657-A43D-444A-B4BE-1294A785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11D-9054-460F-827C-9AF702DE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943-C7D4-45B2-AF43-F3A5AD6A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39E-7241-418B-B9A6-8BB75C34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688-ABCC-440F-AD59-5257605A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D8F-3558-4796-9940-913080B8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04880" y="52668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F53-C30E-4CA1-B6B7-E60C64FF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A83-022B-48E8-A4FA-8369CAB7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930-6F4F-419D-99A6-7B5DAF88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CC6-103C-4C45-AE29-ECA95834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90440" y="1225440"/>
            <a:ext cx="7367760" cy="451080"/>
          </a:xfrm>
          <a:prstGeom prst="rect">
            <a:avLst/>
          </a:prstGeom>
          <a:gradFill rotWithShape="0">
            <a:gsLst>
              <a:gs pos="0">
                <a:srgbClr val="e7e7f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CB20-47F0-42C3-9352-DFBA77B24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006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i-600blu" descr=""/>
          <p:cNvPicPr/>
          <p:nvPr/>
        </p:nvPicPr>
        <p:blipFill>
          <a:blip r:embed="rId2"/>
          <a:stretch/>
        </p:blipFill>
        <p:spPr>
          <a:xfrm>
            <a:off x="696960" y="1219320"/>
            <a:ext cx="3427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. Amann, I. Bertok, J. Cofala, F. Gyarfas, C. Heyes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. Klimont, W. Sch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öpp, W. Winiwart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69240" y="3068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FE baseline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mission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f the PRIMES projections [M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60600" y="1700280"/>
            <a:ext cx="3011400" cy="431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11360" y="6230880"/>
            <a:ext cx="77212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27560" y="6316560"/>
            <a:ext cx="2249640" cy="243720"/>
            <a:chOff x="4327560" y="6316560"/>
            <a:chExt cx="2249640" cy="243720"/>
          </a:xfrm>
        </p:grpSpPr>
        <p:sp>
          <p:nvSpPr>
            <p:cNvPr id="78" name=""/>
            <p:cNvSpPr/>
            <p:nvPr/>
          </p:nvSpPr>
          <p:spPr>
            <a:xfrm>
              <a:off x="4327560" y="6367320"/>
              <a:ext cx="317520" cy="128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8680" y="6316560"/>
              <a:ext cx="183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w Member St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71400" y="6316560"/>
            <a:ext cx="3170160" cy="243720"/>
            <a:chOff x="671400" y="6316560"/>
            <a:chExt cx="3170160" cy="243720"/>
          </a:xfrm>
        </p:grpSpPr>
        <p:sp>
          <p:nvSpPr>
            <p:cNvPr id="81" name=""/>
            <p:cNvSpPr/>
            <p:nvPr/>
          </p:nvSpPr>
          <p:spPr>
            <a:xfrm>
              <a:off x="671400" y="6367320"/>
              <a:ext cx="317520" cy="128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82160" y="631656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U-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04600" y="6419880"/>
              <a:ext cx="317520" cy="144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00000" y="6356160"/>
              <a:ext cx="125280" cy="12564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15720" y="6316560"/>
              <a:ext cx="172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yoto target EU-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673680" y="6316560"/>
            <a:ext cx="2139840" cy="243720"/>
            <a:chOff x="6673680" y="6316560"/>
            <a:chExt cx="2139840" cy="243720"/>
          </a:xfrm>
        </p:grpSpPr>
        <p:sp>
          <p:nvSpPr>
            <p:cNvPr id="87" name=""/>
            <p:cNvSpPr/>
            <p:nvPr/>
          </p:nvSpPr>
          <p:spPr>
            <a:xfrm>
              <a:off x="6673680" y="6419880"/>
              <a:ext cx="31752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68720" y="6356160"/>
              <a:ext cx="127080" cy="12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4800" y="6316560"/>
              <a:ext cx="172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yoto target EU-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35320" y="4741920"/>
            <a:ext cx="13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limate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12840" y="4741920"/>
            <a:ext cx="131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 furth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limate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ational projec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idered for the CAFE baselin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8640"/>
            <a:ext cx="380988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lgium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zech Republic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nmark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rance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taly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rtugal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lovenia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weden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1640" y="1988640"/>
            <a:ext cx="380988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griculture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ustria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nmark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rance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reland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taly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atvia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therlands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rtugal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lovenia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2015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lative to 200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2720" y="1700280"/>
            <a:ext cx="79167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by sector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612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42200" y="4741920"/>
            <a:ext cx="11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05040" y="6021360"/>
            <a:ext cx="7341840" cy="500760"/>
            <a:chOff x="905040" y="6021360"/>
            <a:chExt cx="7341840" cy="500760"/>
          </a:xfrm>
        </p:grpSpPr>
        <p:sp>
          <p:nvSpPr>
            <p:cNvPr id="103" name=""/>
            <p:cNvSpPr/>
            <p:nvPr/>
          </p:nvSpPr>
          <p:spPr>
            <a:xfrm>
              <a:off x="905040" y="6021360"/>
              <a:ext cx="62578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60480" y="6097320"/>
              <a:ext cx="109440" cy="10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6640" y="605304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89120" y="6097320"/>
              <a:ext cx="109800" cy="109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6360" y="605304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56000" y="6097320"/>
              <a:ext cx="109440" cy="109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04680" y="60530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2320" y="6097320"/>
              <a:ext cx="10944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9560" y="605304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27720" y="6097320"/>
              <a:ext cx="1094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75320" y="60530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12040" y="6097320"/>
              <a:ext cx="109440" cy="109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54960" y="605304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ial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28160" y="6308640"/>
              <a:ext cx="168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 emission ce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92360" y="6308640"/>
              <a:ext cx="144720" cy="1443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040440" y="217332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67200" y="373536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60600" y="16588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169848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projected for 201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mpared to NEC emission ceiling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2720" y="17146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ange of 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 projec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05520" y="6137280"/>
            <a:ext cx="61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----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-15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----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Member States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---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2720" y="169236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60600" y="1701720"/>
            <a:ext cx="3011400" cy="4316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by sector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696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80000" y="4741920"/>
            <a:ext cx="11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3800" y="3112920"/>
            <a:ext cx="144360" cy="1447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66000" y="217800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905040" y="6021360"/>
            <a:ext cx="7341840" cy="500760"/>
            <a:chOff x="905040" y="6021360"/>
            <a:chExt cx="7341840" cy="500760"/>
          </a:xfrm>
        </p:grpSpPr>
        <p:sp>
          <p:nvSpPr>
            <p:cNvPr id="140" name=""/>
            <p:cNvSpPr/>
            <p:nvPr/>
          </p:nvSpPr>
          <p:spPr>
            <a:xfrm>
              <a:off x="905040" y="6021360"/>
              <a:ext cx="62578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60480" y="6097320"/>
              <a:ext cx="109440" cy="10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6640" y="605304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9120" y="6097320"/>
              <a:ext cx="109800" cy="109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6360" y="605304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56000" y="6097320"/>
              <a:ext cx="109440" cy="109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04680" y="60530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32320" y="6097320"/>
              <a:ext cx="10944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9560" y="605304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27720" y="6097320"/>
              <a:ext cx="1094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75320" y="60530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2040" y="6097320"/>
              <a:ext cx="109440" cy="109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4960" y="605304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ial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28160" y="6308640"/>
              <a:ext cx="168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 emission ce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92360" y="6308640"/>
              <a:ext cx="144720" cy="1443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171612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pproach for baseline emission projec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tch RAINS estimates with nationally reported emission inventories for 2000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se projections on emission generating activities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energy, transport, agriculture)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U-wide scenarios and national projections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trapolate penetration rates of control measures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p to 202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aking account of international and national legisla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, EU-2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2720" y="1623960"/>
            <a:ext cx="79167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projected for 201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mpared to NEC emission ceiling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2720" y="17146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ange of 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 projec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22080" y="6157800"/>
            <a:ext cx="60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----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-15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----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Member States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---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2720" y="169236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OC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C emiss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764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78200" y="4741920"/>
            <a:ext cx="118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66000" y="2131920"/>
            <a:ext cx="144360" cy="1447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02120" y="311940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74720" y="5959440"/>
            <a:ext cx="7593120" cy="739800"/>
            <a:chOff x="774720" y="5959440"/>
            <a:chExt cx="7593120" cy="739800"/>
          </a:xfrm>
        </p:grpSpPr>
        <p:sp>
          <p:nvSpPr>
            <p:cNvPr id="174" name=""/>
            <p:cNvSpPr/>
            <p:nvPr/>
          </p:nvSpPr>
          <p:spPr>
            <a:xfrm>
              <a:off x="774720" y="5959440"/>
              <a:ext cx="75931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8720" y="6034320"/>
              <a:ext cx="299880" cy="109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06720" y="598968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9160" y="6034320"/>
              <a:ext cx="300240" cy="109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38240" y="598968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91400" y="6034320"/>
              <a:ext cx="299880" cy="109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70840" y="5989680"/>
              <a:ext cx="94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useho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28720" y="6280200"/>
              <a:ext cx="29988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07800" y="623592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59160" y="6280200"/>
              <a:ext cx="3002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38600" y="623592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91400" y="6280200"/>
              <a:ext cx="299880" cy="109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69040" y="6235920"/>
              <a:ext cx="7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lven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8720" y="6526440"/>
              <a:ext cx="299880" cy="109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8160" y="648180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s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9160" y="6569280"/>
              <a:ext cx="3002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36440" y="6481800"/>
              <a:ext cx="211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tional Emission Ceil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60600" y="16714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72000" y="171144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C emissions projected for 201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mpared to NEC emission ceiling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2720" y="17146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e-CAP reform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764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05560" y="4741920"/>
            <a:ext cx="11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905040" y="6021360"/>
            <a:ext cx="7341840" cy="500760"/>
            <a:chOff x="905040" y="6021360"/>
            <a:chExt cx="7341840" cy="500760"/>
          </a:xfrm>
        </p:grpSpPr>
        <p:sp>
          <p:nvSpPr>
            <p:cNvPr id="201" name=""/>
            <p:cNvSpPr/>
            <p:nvPr/>
          </p:nvSpPr>
          <p:spPr>
            <a:xfrm>
              <a:off x="905040" y="6021360"/>
              <a:ext cx="62578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60480" y="6097320"/>
              <a:ext cx="109440" cy="10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06640" y="605304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89120" y="6097320"/>
              <a:ext cx="109800" cy="109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6360" y="605304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56000" y="6097320"/>
              <a:ext cx="109440" cy="1098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04680" y="60530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32320" y="6097320"/>
              <a:ext cx="10944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79560" y="605304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27720" y="6097320"/>
              <a:ext cx="1094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5320" y="60530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12040" y="6097320"/>
              <a:ext cx="109440" cy="109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54960" y="605304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ial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28160" y="6308640"/>
              <a:ext cx="168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 emission ce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92360" y="6308640"/>
              <a:ext cx="144720" cy="1443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122880" y="2325600"/>
            <a:ext cx="144720" cy="1447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92400" y="200988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60600" y="16984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0" y="171288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projected for 201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mpared to NEC emission ceiling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12720" y="17002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eparation of RAINS databas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imary PM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10720" y="54799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PM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AINS PM emission estimates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s. national inventories, 200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60600" y="19000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72000" y="1900080"/>
            <a:ext cx="3011400" cy="431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32360" y="561492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PM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35360" y="6316560"/>
            <a:ext cx="3471840" cy="247680"/>
            <a:chOff x="2835360" y="6316560"/>
            <a:chExt cx="3471840" cy="247680"/>
          </a:xfrm>
        </p:grpSpPr>
        <p:sp>
          <p:nvSpPr>
            <p:cNvPr id="229" name=""/>
            <p:cNvSpPr/>
            <p:nvPr/>
          </p:nvSpPr>
          <p:spPr>
            <a:xfrm>
              <a:off x="2835360" y="6316560"/>
              <a:ext cx="34718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89360" y="6392880"/>
              <a:ext cx="254160" cy="109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20560" y="6348240"/>
              <a:ext cx="143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tional inven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2960" y="6435720"/>
              <a:ext cx="25380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24520" y="6348240"/>
              <a:ext cx="127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INS estim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M2.5 emissions by sector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-6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10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764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61280" y="4741920"/>
            <a:ext cx="11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05040" y="6021360"/>
            <a:ext cx="7341840" cy="500760"/>
            <a:chOff x="905040" y="6021360"/>
            <a:chExt cx="7341840" cy="500760"/>
          </a:xfrm>
        </p:grpSpPr>
        <p:sp>
          <p:nvSpPr>
            <p:cNvPr id="240" name=""/>
            <p:cNvSpPr/>
            <p:nvPr/>
          </p:nvSpPr>
          <p:spPr>
            <a:xfrm>
              <a:off x="905040" y="6021360"/>
              <a:ext cx="62578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60480" y="6097320"/>
              <a:ext cx="109440" cy="10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06640" y="605304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89120" y="6097320"/>
              <a:ext cx="109800" cy="109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6360" y="605304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56000" y="6097320"/>
              <a:ext cx="109440" cy="109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04680" y="60530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32320" y="6097320"/>
              <a:ext cx="10944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9560" y="605304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27720" y="6097320"/>
              <a:ext cx="1094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75320" y="60530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12040" y="6097320"/>
              <a:ext cx="109440" cy="109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54960" y="605304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ial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28160" y="6308640"/>
              <a:ext cx="168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 emission ce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92360" y="6308640"/>
              <a:ext cx="144720" cy="1443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60600" y="171144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572000" y="168444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ribution to primary PM2.5 emissions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, EU-15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2720" y="1623960"/>
            <a:ext cx="79167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lack carbon emissions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92280" y="1700280"/>
            <a:ext cx="2979720" cy="4319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2979720" cy="4319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27640" y="53006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51280" y="4724280"/>
            <a:ext cx="118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41760" y="6308640"/>
            <a:ext cx="3662640" cy="213480"/>
            <a:chOff x="2741760" y="6308640"/>
            <a:chExt cx="3662640" cy="213480"/>
          </a:xfrm>
        </p:grpSpPr>
        <p:sp>
          <p:nvSpPr>
            <p:cNvPr id="265" name=""/>
            <p:cNvSpPr/>
            <p:nvPr/>
          </p:nvSpPr>
          <p:spPr>
            <a:xfrm>
              <a:off x="2741760" y="6353280"/>
              <a:ext cx="109080" cy="109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0080" y="630864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al, o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9440" y="6353280"/>
              <a:ext cx="109080" cy="1094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69200" y="630864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17840" y="6353280"/>
              <a:ext cx="109080" cy="1094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64360" y="6308640"/>
              <a:ext cx="126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esel, gaso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08600" y="6353280"/>
              <a:ext cx="109080" cy="1094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57280" y="630864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6960" y="1996920"/>
            <a:ext cx="8177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le accounting for continued economic growth …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ational emissions of air pollutants will decrease up to 2020: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-65%,  N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50%, VOC -45%, 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-4%, PM2.5 -45%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e to structural changes and emission control legisla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levance of sectors for further measures will change.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mall combustion sources!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dustrial processes, solvents!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ff-road vehicles and machinery!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missions from maritime activities will surpass land-based  emissions of EU-25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aseline scenario on the Web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30686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l country- and sector-specific results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f the baseline scenarios are available at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ww.iiasa.ac.at/rain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ilateral consultations (1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7240" y="2081160"/>
          <a:ext cx="7769160" cy="3956040"/>
        </p:xfrm>
        <a:graphic>
          <a:graphicData uri="http://schemas.openxmlformats.org/drawingml/2006/table">
            <a:tbl>
              <a:tblPr/>
              <a:tblGrid>
                <a:gridCol w="1417680"/>
                <a:gridCol w="1274760"/>
                <a:gridCol w="755640"/>
                <a:gridCol w="1847880"/>
                <a:gridCol w="979560"/>
                <a:gridCol w="876240"/>
                <a:gridCol w="6174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r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ltation meeting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of expe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 recei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 PRI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scena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. sc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Jan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Oct 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Oct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 Dec 03 – 23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ELECT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1 Oct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ng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Nov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1 Nov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Dec 03 - 23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ech Re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Nov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Dec - 27 Feb, 07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Dec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6 Dec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Jan, 15 Feb - 02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 Jan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Mar 04 - 2-15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-23 Jan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Jan, 09 Mar - 04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-28 Jan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Feb, 03 Mar - 15 Mar, 06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 Feb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Mar 04 - 13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ilateral consultations (2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00200" y="2011320"/>
          <a:ext cx="7742160" cy="4095720"/>
        </p:xfrm>
        <a:graphic>
          <a:graphicData uri="http://schemas.openxmlformats.org/drawingml/2006/table">
            <a:tbl>
              <a:tblPr/>
              <a:tblGrid>
                <a:gridCol w="1139760"/>
                <a:gridCol w="1293840"/>
                <a:gridCol w="757080"/>
                <a:gridCol w="2109960"/>
                <a:gridCol w="988920"/>
                <a:gridCol w="839880"/>
                <a:gridCol w="612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r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ltation meeting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of expe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 recei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 PRI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scena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. . sc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 Feb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Feb, 03,05 Mar - 08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g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17 Feb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 Mar - 2-13 Apr, 06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Feb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Feb - 18,19 Mar, 19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/19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9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VO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 25 Mar 04 - 19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o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k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18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8 Mar 04 - 07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9 Mar 04 - 01, 08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26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Mar 04 - 02,08,18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+ 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4059360"/>
            <a:ext cx="4095720" cy="251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6280" y="4059360"/>
            <a:ext cx="4095720" cy="2519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6280" y="1646280"/>
            <a:ext cx="4095720" cy="251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572000" y="1646280"/>
            <a:ext cx="4095720" cy="2519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AINS emission estimates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s. national inventories, 200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0920" y="1863720"/>
            <a:ext cx="6303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4440" y="4257720"/>
            <a:ext cx="732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V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1280" y="1878120"/>
            <a:ext cx="64584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67440" y="4257720"/>
            <a:ext cx="6318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NH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35360" y="6423120"/>
            <a:ext cx="3471840" cy="247680"/>
            <a:chOff x="2835360" y="6423120"/>
            <a:chExt cx="3471840" cy="247680"/>
          </a:xfrm>
        </p:grpSpPr>
        <p:sp>
          <p:nvSpPr>
            <p:cNvPr id="63" name=""/>
            <p:cNvSpPr/>
            <p:nvPr/>
          </p:nvSpPr>
          <p:spPr>
            <a:xfrm>
              <a:off x="2835360" y="6423120"/>
              <a:ext cx="34718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89360" y="6499440"/>
              <a:ext cx="254160" cy="109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20560" y="6454800"/>
              <a:ext cx="143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tional inven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92960" y="6542280"/>
              <a:ext cx="25380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24520" y="6454800"/>
              <a:ext cx="127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INS estim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conomic drivers for emission projec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jections of economic activitie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for the CAFE baseline scenario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758600"/>
            <a:ext cx="81342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vised PRIMES projection for all 25 EU countries, </a:t>
            </a:r>
            <a:br>
              <a:rPr sz="2000"/>
            </a:b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ith climate measur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carbon price 12-20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€/t C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cluding national comments received after Apri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G-TREN Energy Outlook to 2030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(PRIMES calculations for all 25 EU countries, </a:t>
            </a:r>
            <a:br>
              <a:rPr sz="2000"/>
            </a:b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ithout further climate measur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ational projections (10 countries)  - with climate measures?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gricultur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G-AGRI projection for all  25 EU countries, pre-CAP reform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ational projections (10 countries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nomic driver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ssumed for the PRIMES energy projection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2720" y="17002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9:01:15Z</dcterms:created>
  <dc:creator>Markus Amann</dc:creator>
  <dc:description/>
  <dc:language>en-US</dc:language>
  <cp:lastModifiedBy>Markus Amann</cp:lastModifiedBy>
  <dcterms:modified xsi:type="dcterms:W3CDTF">2004-09-26T15:16:00Z</dcterms:modified>
  <cp:revision>3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01452525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