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64E0-74B2-4FF4-B254-58133DD9F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2CF2-22F9-49F8-852E-47590B3C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5315-BB05-4AB4-9732-5C0A91BF6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0788-E685-489B-ADE2-581E57110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3F1B-0C2A-4157-842C-82A78F2D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D1CD-B2B1-4FCE-B025-E691DC46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47E3-AA75-4AD7-9388-18313F2D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0CD6-8BA2-42E9-849D-AAB8CDF1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5914-1936-4249-B2D6-0A297A7A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489A-7F27-4FEA-A65E-DBC2856F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313E-3A9A-4509-8AFA-721F063E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1EEB-DEB2-4DF0-A4D7-B7564B98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8A2F-BF56-4ADC-9B40-23AFCCA12857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0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Christer Åg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The Swedish NGO Secretariat on Acid 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www.acidrain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missions 1990-2030</a:t>
            </a:r>
            <a:br>
              <a:rPr sz="4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AINS BL_CLE, August 20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928800" y="1600200"/>
          <a:ext cx="3095640" cy="218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1600200"/>
                    <a:ext cx="309564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5119560" y="1600200"/>
          <a:ext cx="3095640" cy="2185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19560" y="1600200"/>
                    <a:ext cx="309564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927000" y="3938760"/>
          <a:ext cx="3098880" cy="21873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27000" y="3938760"/>
                    <a:ext cx="309888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5118120" y="3938760"/>
          <a:ext cx="3098880" cy="21873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18120" y="3938760"/>
                    <a:ext cx="309888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000" spc="-1" strike="noStrike">
                <a:solidFill>
                  <a:srgbClr val="000000"/>
                </a:solidFill>
                <a:latin typeface="Arial"/>
              </a:rPr>
              <a:t>Health &amp; environmental impacts</a:t>
            </a:r>
            <a:br>
              <a:rPr sz="4000"/>
            </a:b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(RAINS_BL_CLE, August 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971800" y="1700280"/>
          <a:ext cx="3198960" cy="218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700280"/>
                    <a:ext cx="319896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874800" y="3938760"/>
          <a:ext cx="3201840" cy="2187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4800" y="3938760"/>
                    <a:ext cx="320184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065560" y="3938760"/>
          <a:ext cx="3202200" cy="21873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5560" y="3938760"/>
                    <a:ext cx="320220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4T10:16:33Z</dcterms:created>
  <dc:creator>Christer Å</dc:creator>
  <dc:description/>
  <dc:language>en-US</dc:language>
  <cp:lastModifiedBy>Markus Amann</cp:lastModifiedBy>
  <dcterms:modified xsi:type="dcterms:W3CDTF">2004-09-28T09:03:12Z</dcterms:modified>
  <cp:revision>4</cp:revision>
  <dc:subject/>
  <dc:title>Bild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54824792</vt:r8>
  </property>
  <property fmtid="{D5CDD505-2E9C-101B-9397-08002B2CF9AE}" pid="3" name="_AuthorEmail">
    <vt:lpwstr>Duncan.JOHNSTONE@cec.eu.int</vt:lpwstr>
  </property>
  <property fmtid="{D5CDD505-2E9C-101B-9397-08002B2CF9AE}" pid="4" name="_AuthorEmailDisplayName">
    <vt:lpwstr>JOHNSTONE Duncan (ENV)</vt:lpwstr>
  </property>
  <property fmtid="{D5CDD505-2E9C-101B-9397-08002B2CF9AE}" pid="5" name="_EmailSubject">
    <vt:lpwstr>Commenting CAFE Energy baseline on 27 September?</vt:lpwstr>
  </property>
</Properties>
</file>