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F08-9136-4302-A445-D463C176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7E0-0689-4505-9867-55C8B7DF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FC7-926A-482E-84AC-174E172E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58E-DBDA-4E9C-A394-511D00A5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11-96F3-45B2-BA24-1629FCA0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A3A-9B95-46E0-AC15-55108FBA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C08-CCAE-4331-B4A6-0F5A4927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CD6-C6CE-4A1E-93CF-A878E8A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CFD-809B-4902-8C27-4E0579B2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9ED-9B18-43EE-8B45-37C20FBB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211-2B86-4858-86F8-A69B66E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E86-6189-4F4A-91A8-0ECB2BC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FE1-BBDB-4593-A634-328BB180D8D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hrister Åg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he Swedish NGO Secretariat on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ww.acidra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issions 1990-2030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INS BL_CLE, August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600200"/>
          <a:ext cx="309564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00200"/>
                    <a:ext cx="3095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119560" y="1600200"/>
          <a:ext cx="30956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9560" y="1600200"/>
                    <a:ext cx="3095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927000" y="3938760"/>
          <a:ext cx="3098880" cy="2187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7000" y="3938760"/>
                    <a:ext cx="3098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18120" y="3938760"/>
          <a:ext cx="3098880" cy="2187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8120" y="3938760"/>
                    <a:ext cx="3098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Health &amp; environmental impacts</a:t>
            </a:r>
            <a:br>
              <a:rPr sz="4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(RAINS_BL_CLE, August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700280"/>
          <a:ext cx="319896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00280"/>
                    <a:ext cx="31989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74800" y="3938760"/>
          <a:ext cx="3201840" cy="218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4800" y="3938760"/>
                    <a:ext cx="32018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65560" y="3938760"/>
          <a:ext cx="3202200" cy="2187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938760"/>
                    <a:ext cx="32022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0:16:33Z</dcterms:created>
  <dc:creator>Christer Å</dc:creator>
  <dc:description/>
  <dc:language>en-US</dc:language>
  <cp:lastModifiedBy>Markus Amann</cp:lastModifiedBy>
  <dcterms:modified xsi:type="dcterms:W3CDTF">2004-09-28T09:03:12Z</dcterms:modified>
  <cp:revision>4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4824792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