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400-F198-4950-952B-E356B046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06F-3530-4B63-9CC9-EA223840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363-E92E-4C38-8627-DC6D4354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924-8DFD-498E-A86F-43D582F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02E-AA43-4FA3-BE40-4319FDC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035-8FDD-4B89-8A68-6925514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0DB-09DC-4A40-A706-D39D791D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CB-2006-4445-9C43-DED00F8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551-8218-4CBD-89EA-C12EE04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261-4D67-4EF6-9009-CF49D9F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60B-73BF-450B-B456-7922320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E33-6A12-427D-AF77-D04061A3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4421-9944-4A6E-AAF9-690F0F05C40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hrister Å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Swedish NGO Secretariat on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ww.acidra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issions 1990-2030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INS BL_CLE, August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600200"/>
          <a:ext cx="309564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119560" y="1600200"/>
          <a:ext cx="30956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927000" y="3938760"/>
          <a:ext cx="309888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700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18120" y="3938760"/>
          <a:ext cx="3098880" cy="2187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812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Health &amp; environmental impacts</a:t>
            </a:r>
            <a:br>
              <a:rPr sz="4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(RAINS_BL_CLE, August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700280"/>
          <a:ext cx="319896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00280"/>
                    <a:ext cx="31989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74800" y="3938760"/>
          <a:ext cx="3201840" cy="218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4800" y="3938760"/>
                    <a:ext cx="32018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65560" y="3938760"/>
          <a:ext cx="320220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938760"/>
                    <a:ext cx="32022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0:16:33Z</dcterms:created>
  <dc:creator>Christer Å</dc:creator>
  <dc:description/>
  <dc:language>en-US</dc:language>
  <cp:lastModifiedBy>Markus Amann</cp:lastModifiedBy>
  <dcterms:modified xsi:type="dcterms:W3CDTF">2004-09-28T09:03:12Z</dcterms:modified>
  <cp:revision>4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4824792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