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17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13.wmf" ContentType="image/x-wmf"/>
  <Override PartName="/ppt/media/image11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300-FD29-42EE-A131-20A21975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E89-AE08-4F64-B3CF-ADB788F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2FE-FB47-4D8E-B475-761E6AA9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AC4-BFBE-4D93-ADCF-A0F5538B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561-2EBF-48F4-BB02-EF1645D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468-88F9-4AE4-82A8-9AD60C3A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30D-F374-426C-8488-3CD2EC90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05F-C9B0-450E-85EE-8BF313B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728-EBC1-4D06-8835-6054212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6F9-4FA9-4145-996D-EA379AB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8B1-F8EB-4077-BE4E-2271EF1B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1BE-93D4-4ECA-AF5E-9C74203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D708-4B1C-4F57-8062-B4636E3B4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ir quality an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52640"/>
            <a:ext cx="2519280" cy="269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9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52960" y="1952640"/>
            <a:ext cx="2519640" cy="2692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alth-relevant ozone concentra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SOMO35, ppb.day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5889600"/>
            <a:ext cx="788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mature deaths attributable to ozone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cases/year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2000" y="1708200"/>
            <a:ext cx="7558200" cy="463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11040" y="6381720"/>
            <a:ext cx="43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Provisional calculations with 50*50 km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getation-relevant ozone concentra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OT40 [ppm.hours]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6960" y="1952640"/>
            <a:ext cx="2519280" cy="263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927760" y="1952640"/>
            <a:ext cx="2519280" cy="265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5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" y="425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2560" y="5829480"/>
            <a:ext cx="777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itical level for forests = 5 ppm.ho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getation-relevant ozone concentrations 202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OT40 [ppm.hour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9720" y="1900080"/>
            <a:ext cx="4102200" cy="431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57720" y="4491000"/>
            <a:ext cx="3425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itical level for forests: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5 ppm.ho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09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881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id deposition to fores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forest area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4120" y="1833480"/>
            <a:ext cx="4081320" cy="4318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forests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46760" y="3597120"/>
            <a:ext cx="3541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forest area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forest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2720" y="1685880"/>
            <a:ext cx="7916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30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67280" y="1952640"/>
            <a:ext cx="2519640" cy="266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" y="4398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‚l‚r –¾’©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semi-natural ecosystem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cluding HABITAT area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area of semi-natural ecosystem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2800" y="1886040"/>
            <a:ext cx="4081320" cy="43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99120" y="3344760"/>
            <a:ext cx="328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area of semi-natural ecosystem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semi-natural ecosystem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cluding HABITAT areas, 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mi-natural ecosystem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 [k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2720" y="1684440"/>
            <a:ext cx="7916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ir quality impact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alyzed for the CAFE baseline scenario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809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lth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in life expectancy attributable to PM2.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mature deaths attributable to ozo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egetation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zone damage to forests (AOT40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forest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semi-natural ecosystem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lake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nitrogen deposi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impacts shown for “no further climate measures” scenario, average results of 1997, 1999, 2000 &amp; 2003 meteorological condition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65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8881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catchment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id deposition to freshwater bodi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6320" y="1819440"/>
            <a:ext cx="4081680" cy="4317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13520" y="3278160"/>
            <a:ext cx="3395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catchment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freshwater bodie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92000" y="1687680"/>
            <a:ext cx="7558200" cy="4643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lake catchments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ess of critical loads for eutrophic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ecosystem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grid-average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65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8863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4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0" y="425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15040" y="3556080"/>
            <a:ext cx="3267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ecosystem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grid-average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913040"/>
            <a:ext cx="4081320" cy="4317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cess of critical loads for eutrophica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2000" y="1700280"/>
            <a:ext cx="7558200" cy="4643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ecosystems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 for eutrophic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ith decreasing pollution, also impacts are expected to decline in the future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wever, problems will not be entirely resolved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M remains serious (~5 months life expectancy loss in 2020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zone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mains a significant cause for premature death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Several 1000 cases in 2020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getation damage: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ide-spread violations of AOT40 critical level will prevai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idification: Will not disappear, mainly due to 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utrophication remains unresolv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-annual meteorological variability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 PM2.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58920" y="1700280"/>
            <a:ext cx="4746600" cy="4970520"/>
            <a:chOff x="1258920" y="1700280"/>
            <a:chExt cx="4746600" cy="4970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276200" y="1700280"/>
              <a:ext cx="236880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258920" y="4149720"/>
              <a:ext cx="238608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645000" y="1700280"/>
              <a:ext cx="236052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3645000" y="4149720"/>
              <a:ext cx="2360520" cy="25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0" y="-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" y="410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" y="31586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" y="629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4327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720" y="1747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000" y="1747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000" y="621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720" y="621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5800" y="2911320"/>
            <a:ext cx="233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Rural concentrations,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nnual mean [µg/m</a:t>
            </a:r>
            <a:r>
              <a:rPr b="0" lang="en-US" sz="18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rom known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nthropog. source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cluding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c. org. aerosols.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alculation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ith emission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or the yea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080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827680" y="1952640"/>
            <a:ext cx="2519280" cy="2706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" y="22014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thropogenic contribution to PM2.5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7120" y="5516640"/>
            <a:ext cx="788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, annual mean [µg/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om known anthropogenic sources excluding sec. org. aerosol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73200" y="1860480"/>
            <a:ext cx="4019400" cy="431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thropogenic contribution to PM2.5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20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1720" y="3541680"/>
            <a:ext cx="342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, annual mean [µg/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om known anthropogenic sources excluding sec. org. aerosol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9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54680" y="1952640"/>
            <a:ext cx="2519280" cy="267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" y="2211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4395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2560" y="5584680"/>
            <a:ext cx="777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ss in average statistical life expectancy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ue to identified anthropogenic PM2.5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 2020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2800" y="1873080"/>
            <a:ext cx="4059360" cy="4318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57720" y="3875040"/>
            <a:ext cx="334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ss in average statistical life expectancy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ue to identified anthropogenic PM2.5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2000" y="1690560"/>
            <a:ext cx="75582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5720" y="495000"/>
            <a:ext cx="797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mature mortality attributable to ozone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ated to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SimSun"/>
              </a:rPr>
              <a:t>excess of daily max. 8 hour means &gt; 35 ppb (SOMO35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92000" y="1700280"/>
            <a:ext cx="7558200" cy="419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4280" y="6224760"/>
            <a:ext cx="83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pplied relative risk factor: 1.003 / 10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µg/m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  <a:ea typeface="Times New Roman"/>
              </a:rPr>
              <a:t>3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rease in daily max  8 h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7T08:14:22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928391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