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27.png" ContentType="image/png"/>
  <Override PartName="/ppt/media/image12.wmf" ContentType="image/x-wmf"/>
  <Override PartName="/ppt/media/image17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13.wmf" ContentType="image/x-wmf"/>
  <Override PartName="/ppt/media/image11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0.png" ContentType="image/png"/>
  <Override PartName="/ppt/media/image30.png" ContentType="image/png"/>
  <Override PartName="/ppt/media/image28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297-7D54-4B36-84DC-8D1CACAC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EF3-E2F1-4528-BC5F-46984B04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D1E-910E-4101-B8F5-D7A5CE45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B56-B3C4-4CC3-A594-5BE251EC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6A3-5149-4396-9DF6-57617EB7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23F-31FB-42EA-B290-2A897B29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34C-D65C-4244-94A0-1CE7FB0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DCC-E714-45EA-967B-82F39215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5266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145-276D-4C6D-B7B3-EE88E2E4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943-3871-45D8-8ECD-F756C61B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D70-12F5-4696-84E7-EDA40B8E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EE6-638A-41BF-AAB6-5881DE8A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0440" y="1225440"/>
            <a:ext cx="7367760" cy="45108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16F4-098D-457A-BB0B-EFEF6084E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006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i-600blu" descr=""/>
          <p:cNvPicPr/>
          <p:nvPr/>
        </p:nvPicPr>
        <p:blipFill>
          <a:blip r:embed="rId2"/>
          <a:stretch/>
        </p:blipFill>
        <p:spPr>
          <a:xfrm>
            <a:off x="696960" y="1219320"/>
            <a:ext cx="342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. Amann, I. Bertok, J. Cofala, F. Gyarfas, C. Heye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. Klimont, W. Sc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öpp, W. Winiwar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9240" y="3068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FE baseline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ir quality an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952640"/>
            <a:ext cx="2519280" cy="269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9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952960" y="1952640"/>
            <a:ext cx="2519640" cy="2692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alth-relevant ozone concentra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SOMO35, ppb.day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5889600"/>
            <a:ext cx="788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ral concentrations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mature deaths attributable to ozone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cases/year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2000" y="1708200"/>
            <a:ext cx="7558200" cy="463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11040" y="6381720"/>
            <a:ext cx="43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Provisional calculations with 50*50 km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getation-relevant ozone concentra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OT40 [ppm.hours]m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6960" y="1952640"/>
            <a:ext cx="2519280" cy="263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927760" y="1952640"/>
            <a:ext cx="2519280" cy="265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45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" y="42508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2560" y="5829480"/>
            <a:ext cx="777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ritical level for forests = 5 ppm.ho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getation-relevant ozone concentrations 202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OT40 [ppm.hour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9720" y="1900080"/>
            <a:ext cx="4102200" cy="431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57720" y="4491000"/>
            <a:ext cx="3425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ritical level for forests: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5 ppm.ho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096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79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888160" y="1952640"/>
            <a:ext cx="2519280" cy="2665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id deposition to fores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forest area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4120" y="1833480"/>
            <a:ext cx="4081320" cy="4318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forests</a:t>
            </a:r>
            <a:br>
              <a:rPr sz="24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2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46760" y="3597120"/>
            <a:ext cx="3541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forest area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 of forest area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2720" y="1685880"/>
            <a:ext cx="7916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3040" y="1952640"/>
            <a:ext cx="2519280" cy="2652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867280" y="1952640"/>
            <a:ext cx="2519640" cy="2665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" y="43984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‚l‚r –¾’©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semi-natural ecosystem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cluding HABITAT area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area of semi-natural ecosystem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2800" y="1886040"/>
            <a:ext cx="4081320" cy="4317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99120" y="3344760"/>
            <a:ext cx="3289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area of semi-natural ecosystem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semi-natural ecosystem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cluding HABITAT areas, 202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mi-natural ecosystem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 [k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2720" y="1684440"/>
            <a:ext cx="79167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ir quality impact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alyzed for the CAFE baseline scenario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809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lth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ss in life expectancy attributable to PM2.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mature deaths attributable to ozon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egetation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zone damage to forests (AOT40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acid deposition to forest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acid deposition to semi-natural ecosystem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acid deposition to lake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nitrogen deposi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impacts shown for “no further climate measures” scenario, average results of 1997, 1999, 2000 &amp; 2003 meteorological condition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656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52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888160" y="1952640"/>
            <a:ext cx="251928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catchment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id deposition to freshwater bodi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06320" y="1819440"/>
            <a:ext cx="4081680" cy="4317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13520" y="3278160"/>
            <a:ext cx="3395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catchment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freshwater bodie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20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92000" y="1687680"/>
            <a:ext cx="7558200" cy="4643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 of lake catchments area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cess of critical loads for eutrophic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ecosystem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nitrogen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grid-average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656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52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886360" y="1952640"/>
            <a:ext cx="2519280" cy="2665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4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0" y="42508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15040" y="3556080"/>
            <a:ext cx="3267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ecosystem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nitrogen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grid-average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1280" y="1913040"/>
            <a:ext cx="4081320" cy="4317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cess of critical loads for eutrophicatio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20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92000" y="1700280"/>
            <a:ext cx="7558200" cy="4643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 of ecosystems area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nitrogen deposition above critical loads for eutrophic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ith decreasing pollution, also impacts are expected to decline in the future.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wever, problems will not be entirely resolved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M remains serious (~5 months life expectancy loss in 2020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zone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mains a significant cause for premature deaths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Several 1000 cases in 2020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getation damage: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ide-spread violations of AOT40 critical level will prevai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idification: Will not disappear, mainly due to 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utrophication remains unresolv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-annual meteorological variability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r PM2.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258920" y="1700280"/>
            <a:ext cx="4746600" cy="4970520"/>
            <a:chOff x="1258920" y="1700280"/>
            <a:chExt cx="4746600" cy="49705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276200" y="1700280"/>
              <a:ext cx="236880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258920" y="4149720"/>
              <a:ext cx="2386080" cy="25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645000" y="1700280"/>
              <a:ext cx="236052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3645000" y="4149720"/>
              <a:ext cx="2360520" cy="25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0" y="-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" y="410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" y="31586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" y="629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4327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720" y="1747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000" y="1747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000" y="621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720" y="621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5800" y="2911320"/>
            <a:ext cx="233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Rural concentrations,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nnual mean [µg/m</a:t>
            </a:r>
            <a:r>
              <a:rPr b="0" lang="en-US" sz="18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rom known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nthropog. sources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cluding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c. org. aerosols.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alculations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ith emissions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or the year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0800" y="1952640"/>
            <a:ext cx="2519280" cy="267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827680" y="1952640"/>
            <a:ext cx="2519280" cy="2706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" y="22014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thropogenic contribution to PM2.5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7120" y="5516640"/>
            <a:ext cx="788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ral concentrations, annual mean [µg/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rom known anthropogenic sources excluding sec. org. aerosols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73200" y="1860480"/>
            <a:ext cx="4019400" cy="431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thropogenic contribution to PM2.5</a:t>
            </a:r>
            <a:br>
              <a:rPr sz="24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20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1720" y="3541680"/>
            <a:ext cx="342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ral concentrations, annual mean [µg/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rom known anthropogenic sources excluding sec. org. aerosols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s in life expectancy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ttributable to anthropogenic PM2.5 [month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952640"/>
            <a:ext cx="2519280" cy="267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9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54680" y="1952640"/>
            <a:ext cx="2519280" cy="267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" y="2211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4395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2560" y="5584680"/>
            <a:ext cx="777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ss in average statistical life expectancy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ue to identified anthropogenic PM2.5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s in life expectancy 2020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ttributable to anthropogenic PM2.5 [month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2800" y="1873080"/>
            <a:ext cx="4059360" cy="4318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57720" y="3875040"/>
            <a:ext cx="334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ss in average statistical life expectancy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ue to identified anthropogenic PM2.5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s in life expectanc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ttributable to anthropogenic PM2.5 [month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2000" y="1690560"/>
            <a:ext cx="75582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5720" y="495000"/>
            <a:ext cx="797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mature mortality attributable to ozone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ated to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SimSun"/>
              </a:rPr>
              <a:t>excess of daily max. 8 hour means &gt; 35 ppb (SOMO35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92000" y="1700280"/>
            <a:ext cx="7558200" cy="419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4280" y="6224760"/>
            <a:ext cx="83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pplied relative risk factor: 1.003 / 10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µg/m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  <a:ea typeface="Times New Roman"/>
              </a:rPr>
              <a:t>3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crease in daily max  8 h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9:01:15Z</dcterms:created>
  <dc:creator>Markus Amann</dc:creator>
  <dc:description/>
  <dc:language>en-US</dc:language>
  <cp:lastModifiedBy>Markus Amann</cp:lastModifiedBy>
  <dcterms:modified xsi:type="dcterms:W3CDTF">2004-09-27T08:14:22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2928391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